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FF8E-D70C-4757-8C95-38B955C0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9D0-42FC-48FB-A537-EEAF872E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20D-3FAE-4593-872F-479B4E95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689-3400-418A-9B7B-EA2EDE93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1F782-093E-488C-BD0E-0B2CAD36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747B8-3903-4579-AD50-39940A82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44052-E9B0-475D-8DF1-0671DA28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96BEF-D384-487E-893D-0161F747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67DDC-52C9-4C20-B209-522803C3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3D590-3CA9-4D76-BCAB-6768D23A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AE00B-5114-46F9-B073-FADD057F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77C-FE11-41CF-AFA3-07F94296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FA122-0377-4C35-BFD8-57205219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9D05C-B312-48CF-9C03-17BEE04B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080B7-5F2F-4054-9BA9-21F6D02B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56580-B7B0-4996-81CD-53185DA3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9F883-C121-4DC3-9B95-26EF9951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3314A-1222-4F06-B98D-45308128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54BC-491C-441C-80BB-6146E68A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0867-571D-425C-A2B4-0EFBA346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3889E-8A95-472C-AAF3-50981C38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8369-7CC6-49E2-9D25-1C19C293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237-7447-40C8-959A-219F350B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E7877-541F-43F7-9FBA-CA4B77F5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B8D1-F940-4701-BEBC-4B00065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EE148-1165-4E08-9628-18DDBCCD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715C0-9E2B-4954-9CE6-0F837A06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50A38-E140-4385-A9E9-404BF3E2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38FB0-2BC8-435E-8E73-53CBD970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C390E-1EE1-423C-BFA8-5D1B0C45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4DC37-6119-428E-8DCE-4EFE1C64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F71B5-4A52-49D1-830A-A9E4A8F1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3B6C1-CC83-471B-B129-6D423F55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3FF-A6D4-4D78-B71C-CC3F13EB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32E2B-D6CA-4338-9650-F885B12D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73296-E9B6-4E84-94F7-9F48DD31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8AEB3-8B19-4864-A939-F00A5765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01911-88F3-4623-AAC5-65C62240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65836-380A-4CC9-B4F5-77EBD19C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373EA-D22C-4110-A127-A22F109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79CDF-E172-4BA0-9700-4F75D8FE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1F3B3-D356-435C-9027-12664CD2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6CE70-47DA-40B6-8D14-196C6A78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F36A9-628C-46E9-804D-22B1B114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80E-3A10-41C3-9163-41AB3853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01CB7-4C63-4C7E-8F36-B6D5A570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68109-B552-45FD-B6DC-73431B9D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1F1C8-EA4F-4321-8926-79FB618D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8E238-9C27-4698-B671-381C8FF9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FE2E9-B90C-4AE4-BB01-43873BBE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B0A0B-5A48-455A-B2BC-F17A1D63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47F9D-0387-4EF9-9D8A-AB5D4014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7902F-8E0F-4D69-9DE8-F774B025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E4071-36E4-4161-9A4E-EC54C047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C5841-4674-4F12-AD30-88D69234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B23-2941-4144-927E-96FB92C5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30E37-9A60-4975-8380-120DA4B8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394F8-466D-4BF2-910C-4634C2E0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43117-227D-4AA6-A294-59D3395E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6936B-6C2F-4C84-8608-7FB5A9E1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12360-1B10-4536-ACA9-6B23651B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971FF-3581-4064-9B97-BF1782E0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C8203-8802-474B-933B-05191FAE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FA332-0313-4683-A943-9B2984BC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A278C-FD78-4582-ACF0-0222B056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DFFD9-19F2-4C56-87BA-1BA9F3CE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999-327A-43B3-A4EE-ED8CCE88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9B5D2-E4ED-458C-8EF5-D833049A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AF8CE-4923-459B-8119-9CB69A34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87C56-205D-4EEE-9A00-40A81730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31746-0FF3-4808-B140-FE850838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152E7-CFF2-47B2-B5E2-FA8AEF02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ED2D2-4D5A-4737-99A5-9194AFC4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4218E-4D84-40B6-8D88-A7F522F4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ECCCD-555F-468C-B3A2-A4FD51A1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2A3DD-AE22-47AA-9D0D-9F599DFE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0F4EB-F0CA-463E-8371-DC7A4E6D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11C-6CA3-4806-83F2-07181517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DB0E3-4104-4981-BEB9-40E2009B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C469B-44D5-4597-8F3A-AA33D9CD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E9806-5252-469C-BEE7-D2911387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A0ED5-48C4-4007-9C21-3CEF0764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9D7C6-8E52-4F5D-A113-746DED21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A4285-8109-426A-9D36-24C05992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1659A-5562-4D9E-8721-6B1C62E7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9870C-6E35-4530-BA1C-53E27B93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6CB1E-56D1-409A-95C4-FE5457F8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E97BE-576A-4326-A83D-717AD984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420-8075-45FA-97B2-50F16B9D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F07D5-5BDB-4634-9A39-DCFB1BDB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73517-3E35-46BE-90D3-3CEA480C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97673-D761-4CAB-9DAC-B9071002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B6469-9E66-41FC-BEB3-57872BB3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81546-142A-4DE9-B4E1-81BEAC8E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E094C-9902-4CFC-B3B2-CEF511A7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1A14C-FE37-4A4E-AE2D-19E4F3ED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E7F4-F7AA-4F9A-9A63-231EBF29DF6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2F1E-F02A-4DEF-8905-1CFDAC9C672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08CE-99DD-4D70-B93D-2AA03CA0D79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4539-2F63-4650-A9BF-B777489C263B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CF66-F1FB-4D5F-BC8B-81E1138BFC1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D147-C755-40A4-B482-3140AC30E786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5033-3F70-4771-9C35-2331C4276BB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27E4-8040-40E5-A356-C10BBB7B81D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6C8D-2E57-4236-839E-8663AD991E2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591B-124F-4257-81BE-EF52FBDF634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9170-872D-481E-BEC2-116467D2458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A297-7FB5-4AFA-BCE2-4EA91CFA9F2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BABB-402F-4F2D-9B85-821CC825D65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1146-56CF-42C4-B7B0-294B77B9233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AB03-A725-41FB-B5AF-9267327863C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98D8-8B31-4F3F-AFF0-882CF02C888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alisto MT"/>
              </a:rPr>
              <a:t>CHECKING FOR ERRORS IN THE WORK SHEET</a:t>
            </a:r>
            <a:endParaRPr b="0" lang="en-US" sz="47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52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Check for Errors in the Trial Balance Column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lvl="1" marL="510120" indent="-169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Have all general ledger account balances been copied in the Trial Balance column correctly?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lvl="1" marL="510120" indent="-169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Have all general ledger account balances been recorded in the correct Trial Balance column?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Check for Errors in the Adjustments Column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lvl="1" marL="510120" indent="-169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Do the debits equal the credits for each adjustment?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lvl="1" marL="510120" indent="-169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Is the amount for each adjustment correct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7-4, page 1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sto MT"/>
              </a:rPr>
              <a:t>CHECKING FOR ERRORS IN THE WORK SHEET</a:t>
            </a:r>
            <a:endParaRPr b="0" lang="en-US" sz="4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9120" y="2285640"/>
            <a:ext cx="78742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626"/>
                </a:solidFill>
                <a:latin typeface="Calisto MT"/>
              </a:rPr>
              <a:t>Check for Errors in Income Statement and Balance Sheet Columns</a:t>
            </a:r>
            <a:endParaRPr b="0" lang="en-US" sz="2500" spc="-1" strike="noStrike">
              <a:solidFill>
                <a:srgbClr val="262626"/>
              </a:solidFill>
              <a:latin typeface="Calisto MT"/>
            </a:endParaRPr>
          </a:p>
          <a:p>
            <a:pPr lvl="1" marL="520560" indent="-1728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626"/>
                </a:solidFill>
                <a:latin typeface="Calisto MT"/>
              </a:rPr>
              <a:t>Has each amount been copied correctly?</a:t>
            </a:r>
            <a:endParaRPr b="0" lang="en-US" sz="2500" spc="-1" strike="noStrike">
              <a:solidFill>
                <a:srgbClr val="262626"/>
              </a:solidFill>
              <a:latin typeface="Calisto MT"/>
            </a:endParaRPr>
          </a:p>
          <a:p>
            <a:pPr lvl="1" marL="520560" indent="-1728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626"/>
                </a:solidFill>
                <a:latin typeface="Calisto MT"/>
              </a:rPr>
              <a:t>Has each amount been extended to the correct column?</a:t>
            </a:r>
            <a:endParaRPr b="0" lang="en-US" sz="2500" spc="-1" strike="noStrike">
              <a:solidFill>
                <a:srgbClr val="262626"/>
              </a:solidFill>
              <a:latin typeface="Calisto MT"/>
            </a:endParaRPr>
          </a:p>
          <a:p>
            <a:pPr lvl="1" marL="520560" indent="-1728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626"/>
                </a:solidFill>
                <a:latin typeface="Calisto MT"/>
              </a:rPr>
              <a:t>Has the net income/loss been calculated correctly?</a:t>
            </a:r>
            <a:endParaRPr b="0" lang="en-US" sz="2500" spc="-1" strike="noStrike">
              <a:solidFill>
                <a:srgbClr val="262626"/>
              </a:solidFill>
              <a:latin typeface="Calisto MT"/>
            </a:endParaRPr>
          </a:p>
          <a:p>
            <a:pPr lvl="1" marL="520560" indent="-1728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626"/>
                </a:solidFill>
                <a:latin typeface="Calisto MT"/>
              </a:rPr>
              <a:t>Has the net income/loss been recorded in the correct column?</a:t>
            </a:r>
            <a:endParaRPr b="0" lang="en-US" sz="2500" spc="-1" strike="noStrike">
              <a:solidFill>
                <a:srgbClr val="262626"/>
              </a:solidFill>
              <a:latin typeface="Calisto MT"/>
            </a:endParaRPr>
          </a:p>
          <a:p>
            <a:pPr marL="233280" indent="-2332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3:17:25Z</dcterms:created>
  <dc:creator>Mary Colleen McLaughlin</dc:creator>
  <dc:description/>
  <dc:language>en-US</dc:language>
  <cp:lastModifiedBy>David Combs</cp:lastModifiedBy>
  <cp:lastPrinted>1999-03-30T21:19:41Z</cp:lastPrinted>
  <dcterms:modified xsi:type="dcterms:W3CDTF">2012-11-06T00:50:53Z</dcterms:modified>
  <cp:revision>28</cp:revision>
  <dc:subject/>
  <dc:title>THE ACCOUNTING EQUATION</dc:title>
</cp:coreProperties>
</file>